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E09D-D23D-4A18-8E07-BDDB862E7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A408-8CD7-40E8-A858-6D28E31D6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F610-1CB7-490A-B870-857A43FA8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C413-2181-4904-811E-14BF770E7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B2AB-AFD5-4C64-8B76-6B96F8514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AD39-DA95-4640-8611-0A63DEF6F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761D-7692-4D31-BD9B-04CB21A5F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BD44-B856-4EDC-A8D9-A568B7FDB5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871C-1BF1-4889-BCAC-994A15E5A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 poppy had become a symbol of death, renewal and life. The seeds of the flower can remain dormant in the earth for years, but will blossom spectacularly when the soil is ch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78D-6C8A-4B3E-955F-D07A4B90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A2E-1C82-45E4-9828-50D5D749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10B-D8A6-400F-8320-481A3DC8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89A-5918-4815-8940-E9DAE575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2DBF-0E1F-4A44-A3B7-53CEA786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8A8F-D24B-40C2-B7D6-2145FBCA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B127-CB2E-4F75-9E7F-ED60380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9815-DEBC-485A-A63F-AFB6753B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2BF1-D82C-42DA-BD94-8522A45D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5AC4-7C37-421D-A552-5993D0FE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36B1-A03A-46F6-A774-2A227AD5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E24-5DEA-4D4C-AE8F-DDD0AA0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8DF0-8153-4D13-89C9-9E97CE60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4AEB-74EF-4AC6-9FD4-85E5705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DAA3-E6AC-459E-86CA-936D93E3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B19D-AE5B-454A-9CA2-BA7FD4F2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C170-6212-4CC1-82E5-02D76ADB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B07-3070-4F36-A37E-06B19F43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73A-FC26-4D00-842A-593AA078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5E2-41A3-4AD5-BD40-11F2AA88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F23-21BB-47DE-9558-5660685B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467-16D3-49D6-8F84-90457F85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C0C-A352-4D8A-BBE3-99FE8D57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1DE-68AF-4675-ABC5-D38FEE61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50000">
                    <a:srgbClr val="676a5c"/>
                  </a:gs>
                  <a:gs pos="100000">
                    <a:srgbClr val="5e6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E011-5B5E-4462-BAD4-AC066C2A17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50000">
                    <a:srgbClr val="676a5c"/>
                  </a:gs>
                  <a:gs pos="100000">
                    <a:srgbClr val="5e6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881A-2471-4525-8720-3B211A7270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cc"/>
                </a:solidFill>
                <a:latin typeface="Tahoma"/>
              </a:rPr>
              <a:t>Aim:  What was the significance of D-Day?</a:t>
            </a:r>
            <a:br>
              <a:rPr sz="3700"/>
            </a:br>
            <a:r>
              <a:rPr b="0" lang="en-US" sz="3700" spc="-1" strike="noStrike">
                <a:solidFill>
                  <a:srgbClr val="ffffcc"/>
                </a:solidFill>
                <a:latin typeface="Tahoma"/>
              </a:rPr>
              <a:t>L40 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4" descr="SC320901"/>
          <p:cNvPicPr/>
          <p:nvPr/>
        </p:nvPicPr>
        <p:blipFill>
          <a:blip r:embed="rId1"/>
          <a:stretch/>
        </p:blipFill>
        <p:spPr>
          <a:xfrm>
            <a:off x="1295280" y="2057400"/>
            <a:ext cx="5791320" cy="46450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What do you know about D-Da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was D-Da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54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A Operation Overlo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e, 6 1944 -Allied troops invaded France (at Normandy beaches) in the largest sea invasion in hi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ade the coast and push the Germans out of France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in 24 hours the Allies secured the beac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sualties were very high regardless of the battles succes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5" descr="d day"/>
          <p:cNvPicPr/>
          <p:nvPr/>
        </p:nvPicPr>
        <p:blipFill>
          <a:blip r:embed="rId1"/>
          <a:stretch/>
        </p:blipFill>
        <p:spPr>
          <a:xfrm>
            <a:off x="4343400" y="3733920"/>
            <a:ext cx="4800600" cy="3124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SC190366"/>
          <p:cNvPicPr/>
          <p:nvPr/>
        </p:nvPicPr>
        <p:blipFill>
          <a:blip r:embed="rId2"/>
          <a:stretch/>
        </p:blipFill>
        <p:spPr>
          <a:xfrm>
            <a:off x="0" y="1981080"/>
            <a:ext cx="43434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Ultimately Success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end of August 1944 all of northern France was liber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Day signaled the beginning of the end of WW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4" descr="liberation of paris"/>
          <p:cNvPicPr/>
          <p:nvPr/>
        </p:nvPicPr>
        <p:blipFill>
          <a:blip r:embed="rId1"/>
          <a:stretch/>
        </p:blipFill>
        <p:spPr>
          <a:xfrm>
            <a:off x="1676520" y="30862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6705720" y="3200400"/>
            <a:ext cx="2133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ahoma"/>
              </a:rPr>
              <a:t>August 29, 194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ahoma"/>
              </a:rPr>
              <a:t>The Liberation of P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- Day Evidence Activit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04920" y="1219320"/>
          <a:ext cx="8540640" cy="51260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co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9ea8"/>
                      </a:solidFill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ceed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et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Ye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9ea8"/>
                      </a:solidFill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809ea8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Explore the causes and consequences of major wars of the 1900’s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9ea8"/>
                      </a:solidFill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edf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Viewing guide is clear and thorough and provides accurate notes from film viewing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Guided question write up is detailed, accurate and thorough.  Blends information from multiple sources in a clear and purposeful way to illustrate detailed historical understanding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edf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Viewing guide is clear and provides notes from film viewing for creation of written pie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Guided question write up is clear and accurate.  Uses information from multiple sources (film, notes and homework) to illustrate specific understanding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edf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Viewing guide is vague and/ or minimal and provides limited notes from film viewing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Guided question write up is vague/ general. Lacks specific examples. Does not incorporate information from multiple sources provid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9ea8"/>
                      </a:solidFill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edf0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4" descr=""/>
          <p:cNvPicPr/>
          <p:nvPr/>
        </p:nvPicPr>
        <p:blipFill>
          <a:blip r:embed="rId1"/>
          <a:srcRect l="12524" t="13888" r="6086" b="16668"/>
          <a:stretch/>
        </p:blipFill>
        <p:spPr>
          <a:xfrm>
            <a:off x="228600" y="152280"/>
            <a:ext cx="8458200" cy="63439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d day map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isenhower giving orders to troops: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“Full victory-nothing else.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Picture 4" descr="sc194399"/>
          <p:cNvPicPr/>
          <p:nvPr/>
        </p:nvPicPr>
        <p:blipFill>
          <a:blip r:embed="rId1"/>
          <a:stretch/>
        </p:blipFill>
        <p:spPr>
          <a:xfrm>
            <a:off x="1219320" y="1473120"/>
            <a:ext cx="66294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Remembering D-Day: The 60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Anniversar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Picture 4" descr="_40239103_poppies300"/>
          <p:cNvPicPr/>
          <p:nvPr/>
        </p:nvPicPr>
        <p:blipFill>
          <a:blip r:embed="rId1"/>
          <a:stretch/>
        </p:blipFill>
        <p:spPr>
          <a:xfrm>
            <a:off x="533520" y="1219320"/>
            <a:ext cx="3606840" cy="5410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_40240013_flags_pa_300220"/>
          <p:cNvPicPr/>
          <p:nvPr/>
        </p:nvPicPr>
        <p:blipFill>
          <a:blip r:embed="rId2"/>
          <a:stretch/>
        </p:blipFill>
        <p:spPr>
          <a:xfrm>
            <a:off x="4114800" y="1219320"/>
            <a:ext cx="4419720" cy="2962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_40239885_bus-afp-203body"/>
          <p:cNvPicPr/>
          <p:nvPr/>
        </p:nvPicPr>
        <p:blipFill>
          <a:blip r:embed="rId3"/>
          <a:stretch/>
        </p:blipFill>
        <p:spPr>
          <a:xfrm>
            <a:off x="4114800" y="4038480"/>
            <a:ext cx="44197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5:59:51Z</dcterms:created>
  <dc:creator>ITSC</dc:creator>
  <dc:description/>
  <dc:language>en-US</dc:language>
  <cp:lastModifiedBy>NYCDOE</cp:lastModifiedBy>
  <dcterms:modified xsi:type="dcterms:W3CDTF">2012-02-29T12:35:15Z</dcterms:modified>
  <cp:revision>18</cp:revision>
  <dc:subject/>
  <dc:title>D-Day</dc:title>
</cp:coreProperties>
</file>